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4A2-0B61-441B-B1AF-F6596502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9AA-D9B3-431D-AA47-4CB90EED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85F-F3ED-42A3-B31B-E5B18048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AA3-7FEC-401A-9E65-B81CD0F0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DCAE-B982-45BC-81E8-37819D9B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5980-FC03-436D-AB35-3115CDDC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6013-C833-430F-A9F4-DF05AC54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19D6-0843-4D76-9CFF-7E7B584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D642-9EDC-481A-B05F-662ED8D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657F-4FC4-4AC2-B894-8FBB92C9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8D86-E6EF-4FF3-A959-1543A45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A61-5AA5-4FDA-8F78-47D6A4A9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A002-A03C-49CE-9E9A-EC90246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E851-5A2C-4A78-8A69-CC48934B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9A10-2817-4953-BC09-BC6A8EED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7279-AC82-4293-875D-A389A781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4B4C-FD2D-4DD4-989E-DDB70740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424-900E-4CC4-96BA-96E8D82B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777-B6BF-43BC-AC67-3740E5A9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345-4BE2-4AE8-B31C-47B3D8D0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89F-418A-4904-BC2C-4B4E6582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476-36D2-40E1-87A6-3A8ABA6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3CE-B8A6-47FF-BBC0-7C20B8E1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EBB-B886-43BD-BCB1-BADB6D6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AA74-33FF-4CA7-A2F0-1651925D6D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691-CB9A-4B82-82E9-6C74532E7D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ifetimeofcolor.com/study/images/light_dark_shifts.gif" TargetMode="External"/><Relationship Id="rId2" Type="http://schemas.openxmlformats.org/officeDocument/2006/relationships/hyperlink" Target="http://www.alifetimeofcolor.com/study/images/after_image.gif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Colour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240" y="3962160"/>
            <a:ext cx="65278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In the Elementary Class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y: Susan, Lisa, Karrie, Nadine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rah, Catherine, and Marc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6324840" cy="36514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olou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ed when light strikes an object, and reflects back i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eyes.  There are three propert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name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ns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brightness or dullness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lightness or darkness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6191280" cy="3316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imary &amp; Second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y colours a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Secondary colours 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 blu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yellow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ffb800"/>
                </a:solidFill>
                <a:latin typeface="Comic Sans MS"/>
              </a:rPr>
              <a:t>orang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viole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y can not be create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They are produced by mix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mixing other colours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Two primary colours in equal por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Greg Percy’s     Colour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2003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rti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ations of primary and secondary colo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 tertiary colour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-or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-or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-gr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ue-gr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ue viol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-viol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19920" y="388620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014560" cy="2104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ol &amp; Warm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990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ol Col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(Ex: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1" lang="en-US" sz="2000" spc="-1" strike="noStrike">
                <a:solidFill>
                  <a:srgbClr val="990099"/>
                </a:solidFill>
                <a:latin typeface="Comic Sans MS"/>
              </a:rPr>
              <a:t>Viol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Called 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ol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ue to their resemblance of cool objects such as a damp forest or a lake.  These colours are said to calm and relax the vie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rm Col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(Ex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b800"/>
                </a:solidFill>
                <a:latin typeface="Comic Sans MS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1" lang="en-US" sz="2000" spc="-1" strike="noStrike">
                <a:solidFill>
                  <a:srgbClr val="ffef66"/>
                </a:solidFill>
                <a:latin typeface="Comic Sans MS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Called 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ar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due to their resemblance of warm objects such as the sun, or fire.  These colours are said to arouse or stimulate the vie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996600"/>
                </a:solidFill>
                <a:latin typeface="Comic Sans MS"/>
              </a:rPr>
              <a:t>Neutral Col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earth tones are not seen on most color wheels.  Black, grey, and whites are neutral.  Browns, beige, taupes, and tans are neutral to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6172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Claude Monet’s use of cool col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62341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Vincent Van Gogh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use of warm col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4495680"/>
            <a:ext cx="1828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do these pictures make you fee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can colour influence a vie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ints and Sha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nt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of a colour with white (Also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a pastel col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d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of a colour with black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ing with white increases lightness, while mix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black reduces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ing with any neutral colo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black and white, redu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e or colourfulness, leav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e unchang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18856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iment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urs that are opposi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another 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lour whee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48624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ricks of </a:t>
            </a:r>
            <a:r>
              <a:rPr b="1" lang="en-US" sz="4000" spc="-1" strike="noStrike">
                <a:solidFill>
                  <a:srgbClr val="ffef66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ffb800"/>
                </a:solidFill>
                <a:latin typeface="Comic Sans MS"/>
              </a:rPr>
              <a:t>l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u</a:t>
            </a:r>
            <a:r>
              <a:rPr b="1" lang="en-US" sz="4000" spc="-1" strike="noStrike">
                <a:solidFill>
                  <a:srgbClr val="a50d64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to try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ith your Stud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95480" y="16765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Exercise #1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band of colour seems to shift from light 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rk.  But each band is actually a solid colour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 Colours seem to change when placed next to lighter o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rker colors because of the contrast.  See for yourself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y this yourself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Exercise #2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re at the black dot, for 15 seconds.  Once the yellow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ircles disappear you should see yellow where the whit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aces used to be.  You may even see a faint violet image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is an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fter imag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the yellow circles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Try it yourself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198108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et’s Be Creative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4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23:20:31Z</dcterms:created>
  <dc:creator>Marci</dc:creator>
  <dc:description/>
  <dc:language>en-US</dc:language>
  <cp:lastModifiedBy>STU</cp:lastModifiedBy>
  <dcterms:modified xsi:type="dcterms:W3CDTF">2008-06-17T22:33:40Z</dcterms:modified>
  <cp:revision>8</cp:revision>
  <dc:subject/>
  <dc:title>Colour</dc:title>
</cp:coreProperties>
</file>